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A55-277E-4E5F-A43E-A995AF2B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DA6-B2A4-4C30-8BD3-2438A024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697-2C2D-4CE6-9C93-E091045E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C13-12B3-4E03-9AC1-3819E432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5707-DD41-4D01-99DB-C767770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03E8-D981-499E-8FE5-1A14757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67DF-C260-4C36-9B28-CEC9097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FDC-8EB9-4FF5-B46E-D0EB8CE9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B00-1E1E-48F0-B397-5B0B6AA7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D376-1984-47BB-AA95-1422B32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A08-B20A-46B8-8766-AA86910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E5B-8CA4-46EE-B075-E1D509DC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FD49-C6ED-4AE8-A7BE-86FB6C8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8C8F-F15F-493A-AE6B-492BA72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9774-E9FC-4264-BF5E-7F1B4C3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6939-E0FF-41A0-B85B-EA7D1001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5AD5-717C-4256-A134-A1F02DF3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E97-5C06-4694-8DE4-A42D6FC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E60-7017-45A0-AE91-94B4434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042-687D-4ADD-AEF6-A726DA5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A79-81A1-4107-8DF6-D1B2D12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2BF-F010-4139-B665-859A8C9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A5E-9E23-4CC4-B156-E7A6772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11E-D09A-4DA3-9D03-7F0B3FB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946-7AA7-417C-BA35-18B49C8DC6C1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7" name="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d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cc6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6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5A3-32E1-4380-B783-DA2DF4F3228D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ct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pct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cc6018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cc6018"/>
                </a:solidFill>
                <a:latin typeface="Arial"/>
              </a:rPr>
              <a:t>Inequalities Introductio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05720" y="2895480"/>
            <a:ext cx="1304640" cy="1828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12640" y="365760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Algebra Seminar</a:t>
            </a:r>
            <a:endParaRPr b="0" lang="en-US" sz="1800" spc="-1" strike="noStrike">
              <a:solidFill>
                <a:srgbClr val="33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x &lt; 1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-5x &gt; 20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93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ing Inequalit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Solving inequalities follows the same   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cedures as solving equa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There are a few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peci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ngs to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sider with inequalities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We need to look carefully at the inequality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We also need to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he solution se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Review of Inequality Sig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27428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&gt;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er tha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3526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lt;   less than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16320" y="2565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565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962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er than or equal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62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 than or equal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17680" y="47530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47530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27400" y="40384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7400" y="40384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Graphing the solu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&gt;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eater than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en circle, line to the righ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&lt; 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ss tha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en circle, line to the le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eater than or equal to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osed circle, line to the righ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ss than or equal to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osed circle, line to the lef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3886200"/>
          <a:ext cx="36036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360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7315200" y="5410080"/>
            <a:ext cx="818640" cy="228600"/>
            <a:chOff x="7315200" y="5410080"/>
            <a:chExt cx="818640" cy="228600"/>
          </a:xfrm>
        </p:grpSpPr>
        <p:sp>
          <p:nvSpPr>
            <p:cNvPr id="116" name=""/>
            <p:cNvSpPr/>
            <p:nvPr/>
          </p:nvSpPr>
          <p:spPr>
            <a:xfrm>
              <a:off x="7315200" y="54529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5600" y="5410080"/>
              <a:ext cx="228240" cy="22860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934320" y="2057400"/>
            <a:ext cx="838080" cy="228600"/>
            <a:chOff x="6934320" y="2057400"/>
            <a:chExt cx="838080" cy="228600"/>
          </a:xfrm>
        </p:grpSpPr>
        <p:sp>
          <p:nvSpPr>
            <p:cNvPr id="119" name=""/>
            <p:cNvSpPr/>
            <p:nvPr/>
          </p:nvSpPr>
          <p:spPr>
            <a:xfrm>
              <a:off x="6934320" y="205740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920" y="20858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67480" y="4343400"/>
            <a:ext cx="838440" cy="228600"/>
            <a:chOff x="7467480" y="4343400"/>
            <a:chExt cx="838440" cy="228600"/>
          </a:xfrm>
        </p:grpSpPr>
        <p:sp>
          <p:nvSpPr>
            <p:cNvPr id="122" name=""/>
            <p:cNvSpPr/>
            <p:nvPr/>
          </p:nvSpPr>
          <p:spPr>
            <a:xfrm>
              <a:off x="7467480" y="4343400"/>
              <a:ext cx="228600" cy="22860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437184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781680" y="3124080"/>
            <a:ext cx="838080" cy="228600"/>
            <a:chOff x="6781680" y="3124080"/>
            <a:chExt cx="838080" cy="228600"/>
          </a:xfrm>
        </p:grpSpPr>
        <p:sp>
          <p:nvSpPr>
            <p:cNvPr id="125" name=""/>
            <p:cNvSpPr/>
            <p:nvPr/>
          </p:nvSpPr>
          <p:spPr>
            <a:xfrm>
              <a:off x="7391160" y="31240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31669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aphicFrame>
        <p:nvGraphicFramePr>
          <p:cNvPr id="127" name=""/>
          <p:cNvGraphicFramePr/>
          <p:nvPr/>
        </p:nvGraphicFramePr>
        <p:xfrm>
          <a:off x="457200" y="4876920"/>
          <a:ext cx="3808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7692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ing up the number line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 a line that extends infinitely in both the positive and negative dir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enter the line around your focus numb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s it open or closed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de to the left or righ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876920" y="3962160"/>
            <a:ext cx="3201120" cy="1080"/>
          </a:xfrm>
          <a:prstGeom prst="straightConnector1">
            <a:avLst/>
          </a:prstGeom>
          <a:ln w="12600">
            <a:solidFill>
              <a:srgbClr val="33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>
            <a:off x="6400440" y="3733560"/>
            <a:ext cx="1080" cy="533880"/>
          </a:xfrm>
          <a:prstGeom prst="straightConnector1">
            <a:avLst/>
          </a:prstGeom>
          <a:ln w="12600">
            <a:solidFill>
              <a:srgbClr val="33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24480" y="3809880"/>
            <a:ext cx="228600" cy="228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8862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009999"/>
          </a:solidFill>
          <a:ln w="1260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Solve the inequality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x + 4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&lt;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7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i="1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-4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-4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x  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&lt;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3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133720"/>
            <a:ext cx="6514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Subtract 4 from each side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Keep the same inequality sign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Graph the solution.  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Open circle, line to the left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39" name="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1" name="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 &gt; -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 &lt; -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257800" y="2057400"/>
          <a:ext cx="91440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9144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70600" y="4419720"/>
          <a:ext cx="14428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0600" y="4419720"/>
                    <a:ext cx="1442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1981080"/>
          <a:ext cx="246996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1981080"/>
                    <a:ext cx="2469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268280" y="3124080"/>
          <a:ext cx="2524320" cy="59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8280" y="3124080"/>
                    <a:ext cx="25243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95280" y="4343400"/>
          <a:ext cx="272412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343400"/>
                    <a:ext cx="27241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One special case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* Sometimes you may have to 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reverse 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the direction of the inequality sign!!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* That only happens when you 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multiply or divide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 both sides of the inequality by a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negative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 number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Parkland High School</cp:lastModifiedBy>
  <cp:lastPrinted>2010-10-25T12:37:31Z</cp:lastPrinted>
  <dcterms:modified xsi:type="dcterms:W3CDTF">2010-10-25T14:14:50Z</dcterms:modified>
  <cp:revision>61</cp:revision>
  <dc:subject/>
  <dc:title>1.6 </dc:title>
</cp:coreProperties>
</file>